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9535-D337-4F17-B6B6-7D3D2BA5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422B-24F8-4DCB-96EE-E50C23D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3749-D356-4E41-8CFD-BFFB8DE4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4623-46EE-47BA-9EBE-EE22722D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123D-A654-4387-B4B8-6924E406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04E2-AC03-46DB-8446-DCFE71E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3D75-C1FC-4485-B3DC-65A87A63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D49A-2CC1-487D-8CF8-D26DA78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E45-D0E3-4BC2-8D22-B3E155D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950-FCE7-4544-A305-FB65789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FBF5-3C88-412E-9284-E34EAB1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5223-4255-455D-9B12-0C996CE4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22C1-408D-4C61-B012-7827136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F1F-987F-42C7-AD34-D39F8A0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1B31-E845-4CAD-A744-102B1FE8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8E5-DACD-4F14-B7B2-3B0ACBC8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1ED6-A8D0-4403-96BD-F9BE7F8C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FF18-43F6-41A9-AC7D-7774F79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BF8E-FE88-41D7-8B77-88385EF2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0772-51C1-49F2-AEAE-8E33298C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DD2F-44EB-49FB-97F2-A3837AB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053D-909A-403D-8E6C-6C7480A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E23D-D520-4274-93E6-B1008FD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A151-DE94-4F45-B977-F35ECA8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DF50-A9EB-45E3-83D1-81AF8A759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6F63-E72B-4D6D-8B31-57044646B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ff"/>
                </a:solidFill>
                <a:latin typeface="Arial"/>
              </a:rPr>
              <a:t>Workshop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AutoText in Word einfü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Öffnen Sie zuerst das 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rogramm Wo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5516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1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9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chreiben Sie Ihren gewünschten 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s Beispiel ein Briefko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arkieren Sie Ihre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535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Klicken Sie in der Menüleiste auf „Einfügen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Klicken Sie nun im Untermenü auf „AutoTex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 öffnet sich ein weiteres Untermenü, indem Sie auf „Neu…“ kl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981080"/>
            <a:ext cx="4038480" cy="3886200"/>
            <a:chOff x="457200" y="1981080"/>
            <a:chExt cx="4038480" cy="38862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080"/>
              <a:ext cx="40384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457200" y="1981080"/>
              <a:ext cx="403848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 öffnet sich ein Dialogfenster indem Sie den Namen für den AutoText-Eintrag in das Textfeld 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e im Beispiel der Name, der im Briefkopf geschriebenen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Klicken Sie auf „OK“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1981080"/>
            <a:ext cx="4038480" cy="3886200"/>
            <a:chOff x="4648320" y="1981080"/>
            <a:chExt cx="4038480" cy="388620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40384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4648320" y="1981080"/>
              <a:ext cx="403848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Nun ist der Eintrag gespeich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enn Sie nun den Namen für den AutoText-Eintrag eingeben (im Beispiel: Natascha Stumpf) und anschließend auf die Eingabetaste drücken, erscheint der im 1. Schritt eingegeben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59320" y="1981080"/>
          <a:ext cx="26146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9320" y="1981080"/>
                    <a:ext cx="26146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859280" y="4000680"/>
            <a:ext cx="3745080" cy="21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ch hoffe Sie wissen nun wie Sie einen AutoText bei Word einfüg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19128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6:03:07Z</dcterms:created>
  <dc:creator> </dc:creator>
  <dc:description/>
  <dc:language>en-US</dc:language>
  <cp:lastModifiedBy> </cp:lastModifiedBy>
  <dcterms:modified xsi:type="dcterms:W3CDTF">2006-12-12T07:33:40Z</dcterms:modified>
  <cp:revision>8</cp:revision>
  <dc:subject/>
  <dc:title>Workshop 3</dc:title>
</cp:coreProperties>
</file>