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1CDA-4B0B-4B6A-8F6A-ECF776ED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7D58-1189-4754-AB36-622C031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B979-E65D-4A42-BB2D-E3E2CE70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B3A1-0AED-4087-933F-05BF2C6B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9E7F-9969-4F53-856E-E78EB744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0712-5DEE-41FA-81B7-294FB1C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C75F-8EE1-442F-A9AB-E2D8572E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BA0-D0F0-4C5F-91AE-D1FC1799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48F7-94D7-45A1-9540-1C7B52D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889F-1808-47C2-8A9C-D14801AD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79B-26C2-4162-BAE7-6FE871C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2632-6E5B-481F-B602-1B63463D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6327-C566-4CB1-90D8-5036B83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CB09-8E60-4A04-B122-49985D7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2657-0ABE-4306-B62F-0A1640E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9FBD-B97A-4BE4-861E-64B8E1FD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C2F-D69E-481A-9758-C09A9FA6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6AF2-C56E-4211-B1D7-5F2BC3AF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D085-5644-4225-BEDF-50205C2A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AC3D-A132-4726-93F9-1028FD58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A542-7FE6-4F06-8D4C-9CDD4931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2907-CDF9-4E5C-8141-E3E4DB2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8AAC-65C6-41D8-940A-076B3B34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9399-1559-4240-BE9A-3EFA72C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52F0-F8CA-46D4-8442-6631F7C20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C7DA-DB5A-41BB-84EA-60030679F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ff"/>
                </a:solidFill>
                <a:latin typeface="Arial"/>
              </a:rPr>
              <a:t>Workshop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AutoText in Word einfü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Öffnen Sie zuerst das 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rogramm Wo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5516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1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9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chreiben Sie Ihren gewünschten Tex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s Beispiel ein Briefko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arkieren Sie Ihre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535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Klicken Sie in der Menüleiste auf „Einfügen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Klicken Sie nun im Untermenü auf „AutoTex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 öffnet sich ein weiteres Untermenü, indem Sie auf „Neu…“ kl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981080"/>
            <a:ext cx="4038480" cy="3886200"/>
            <a:chOff x="457200" y="1981080"/>
            <a:chExt cx="4038480" cy="38862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457200" y="1981080"/>
              <a:ext cx="40384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457200" y="1981080"/>
              <a:ext cx="403848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 öffnet sich ein Dialogfenster indem Sie den Namen für den AutoText-Eintrag in das Textfeld 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e im Beispiel der Name, der im Briefkopf geschriebenen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Klicken Sie auf „OK“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1981080"/>
            <a:ext cx="4038480" cy="3886200"/>
            <a:chOff x="4648320" y="1981080"/>
            <a:chExt cx="4038480" cy="388620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40384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4648320" y="1981080"/>
              <a:ext cx="403848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. Schrit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Nun ist der Eintrag gespeich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enn Sie nun den Namen für den AutoText-Eintrag eingeben (im Beispiel: Natascha Stumpf) und anschließend auf die Eingabetaste drücken, erscheint der im 1. Schritt eingegeben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59320" y="1981080"/>
          <a:ext cx="26146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9320" y="1981080"/>
                    <a:ext cx="26146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859280" y="4000680"/>
            <a:ext cx="3745080" cy="21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ch hoffe Sie wissen nun wie Sie einen AutoText bei Word einfüg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19128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6:03:07Z</dcterms:created>
  <dc:creator> </dc:creator>
  <dc:description/>
  <dc:language>en-US</dc:language>
  <cp:lastModifiedBy> </cp:lastModifiedBy>
  <dcterms:modified xsi:type="dcterms:W3CDTF">2006-12-12T07:33:40Z</dcterms:modified>
  <cp:revision>8</cp:revision>
  <dc:subject/>
  <dc:title>Workshop 3</dc:title>
</cp:coreProperties>
</file>