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0C8B-9AA0-4176-B239-82444457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432-36C3-467D-8B31-518FB3C5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F9FC-F826-410E-B440-22A74C62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0D70-D588-46BA-B381-22ECE54A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9423-BC4A-40EE-B65C-B42EC548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FC4E-441F-4A07-B010-F8414B34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FF37-08AA-4647-9D49-AADE1F45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5BC8-F601-4A1A-AFF1-C83F70BC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85AF-85E7-47D0-8FBA-E363C309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4D44-77F1-48A8-96AF-8991C4D6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9539-3F4E-47F7-8AF4-EE6C8ECE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0CF-AF37-403D-901F-4BA6DD12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0B4E-AD23-4481-9FE5-7912EE9C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766C-316C-4AA4-B6DF-545E025B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397E-AFA7-4ED4-9938-56F727FD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E052-4AB0-4781-B9A4-08959896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9603-3631-4D17-B278-68469F83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0F04-6099-4EFA-8285-D73E3E84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4730-A9AE-4D6C-88F5-CFB48B66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8F0-88A4-44D9-BA8F-FC072448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C1D-A1EE-4DE9-A309-28D18482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AB26-8A81-4804-ABE0-2A3080E0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FF95-E6A3-4EE6-BCA2-40476A9B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ED76-2663-4D81-A124-5DCB4F7E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70A0-7437-44D1-9107-652E4A7463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5DCC-F3E9-43A3-B2E1-29D0739EBC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Word-Workshop I</a:t>
            </a:r>
            <a:br>
              <a:rPr sz="4800"/>
            </a:br>
            <a:br>
              <a:rPr sz="1800"/>
            </a:b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(Bitte bedienen Sie die Präsentation mit der Maus)</a:t>
            </a:r>
            <a:endParaRPr b="0" lang="en-US" sz="1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Einfügen und bearbeiten von Grafik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 dem Symbol können Sie die Grafik drehen.  Um wie viel Grad sich das Bild dreht hängt davon ab, wie oft Sie auf das Symbol klick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668520" cy="619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77080" y="2997360"/>
            <a:ext cx="1557360" cy="1101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804000" y="422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drehtes Bild (1-Mal klic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932360" y="3429000"/>
            <a:ext cx="1177920" cy="1731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43280" y="5300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drehtes Bild (2-Mal klic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 diesem Symbol können Sie der Grafik einen Rahmen verleihen. Es gibt verschiedene Arten, die sie in einem Menü, das beim Anklicken des Symbols erscheint, wählen könn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502320" y="2197080"/>
            <a:ext cx="662040" cy="662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227640" y="3357720"/>
            <a:ext cx="1629000" cy="2157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372360" y="558972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 mit einfachen Rah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 diesen Symbol, können Sie das Layout einstellen. Wenn Sie das Bild später noch verschieben wollen, klicken Sie am besten auf „Passend“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423040" y="2060640"/>
            <a:ext cx="2782800" cy="3265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ür den Fall, dass Sie sich einmal umentscheiden wollen, klicken Sie auf dieses Symbol und Ihr letzter Befehl wird rückgängig gemac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300720" y="2997360"/>
            <a:ext cx="674640" cy="650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onotype Corsiva"/>
              </a:rPr>
              <a:t>Einfügen von Clip Ar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licken Sie als erstes auf „Einfügen“ in der Menüleiste, anschließend auf „Grafik“. Wollen Sie nun ein Clip Art einfügen, klicken Sie auf „ClipArt…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48320" y="2147760"/>
            <a:ext cx="4171680" cy="33292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der Seite des Dokumentes sollte sich jetzt dieses Menü öffnen. In das Feld unter „Text suchen:“, geben Sie einen Begriff ein, nach dem Sie suchen. Klicken Sie anschließend auf „Suchen“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65800" y="1916280"/>
            <a:ext cx="2887560" cy="35496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e Ergebnisse werden Ihnen in dem gleichen Menü angezeig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s Sie Ihre Angaben, über das Bild, noch einmal ändern wollen, klicken Sie auf „Ändern“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460840" y="1557360"/>
            <a:ext cx="2576520" cy="4340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nn sie ein Clip Art ausgewählt haben, klicken Sie einfach auf die Abbildung. Jetzt sollte sich das Bild in ihrem Dokument befind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79960" y="2060640"/>
            <a:ext cx="3371760" cy="3411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e auch bei den gespeicherten Grafiken, können Sie das Bild jetzt noch bearbeit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4254480" cy="3121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nde des Word-Workshop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iel Erfolg beim Einfügen von Grafi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ünscht Ihnen 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nformatik-Ku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©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Sarah Plaßmann,9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Monotype Corsiva"/>
              </a:rPr>
              <a:t>E</a:t>
            </a:r>
            <a:r>
              <a:rPr b="0" lang="en-US" sz="4400" spc="-1" strike="noStrike">
                <a:solidFill>
                  <a:srgbClr val="b2b2b2"/>
                </a:solidFill>
                <a:latin typeface="Monotype Corsiva"/>
              </a:rPr>
              <a:t>infügen</a:t>
            </a:r>
            <a:r>
              <a:rPr b="0" lang="en-US" sz="4400" spc="-1" strike="noStrike">
                <a:solidFill>
                  <a:srgbClr val="b2b2b2"/>
                </a:solidFill>
                <a:latin typeface="SimSun"/>
              </a:rPr>
              <a:t> </a:t>
            </a:r>
            <a:r>
              <a:rPr b="0" lang="en-US" sz="4400" spc="-1" strike="noStrike">
                <a:solidFill>
                  <a:srgbClr val="b2b2b2"/>
                </a:solidFill>
                <a:latin typeface="Monotype Corsiva"/>
              </a:rPr>
              <a:t>von Grafik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Öffnen Sie 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licken Sie auf „Einfügen“ in der Menüleiste so, dass sich ein neues Untermenü öffn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103640" cy="37562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ählen Sie das Untermenü „Grafik“ und warten sie, bis sich ein neues  Menü öffn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nn Sie ein bereits gespeichertes Bild einfügen wollen, klicken Sie auf „Aus Datei…“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4392360" cy="3635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 nächstes erscheint das nebenan dargestellte Fen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356000" y="1916280"/>
            <a:ext cx="4535640" cy="2927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hen Sie in ihren Ordnern nach dem Bild, das Sie in das Dokument einfügen woll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nn Sie dieses gefunden haben, klicken sie zuerst auf das Bild, anschließend auf „Einfügen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27640" y="2205000"/>
            <a:ext cx="4392360" cy="2862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Monotype Corsiva"/>
              </a:rPr>
              <a:t>B</a:t>
            </a:r>
            <a:r>
              <a:rPr b="0" lang="en-US" sz="4400" spc="-1" strike="noStrike">
                <a:solidFill>
                  <a:srgbClr val="b2b2b2"/>
                </a:solidFill>
                <a:latin typeface="Monotype Corsiva"/>
              </a:rPr>
              <a:t>earbeiten von Grafik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nn Sie das Bild, das nun im Word-Dokument erschienen sein sollte, anklicken, öffnet sich ein Menü, mit dessen Hilfe Sie das Bild bearbeiten könn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27640" y="2857680"/>
            <a:ext cx="4716360" cy="1455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 diesen Symbolen können Sie den Kontrast des Bildes einstellen. Der Pfeil nach oben bedeutet mehr Kontrast, der nach unten wenig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940360" y="2565360"/>
            <a:ext cx="1224000" cy="841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64000" y="4149720"/>
            <a:ext cx="1130400" cy="1041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732720" y="4149720"/>
            <a:ext cx="1130040" cy="1028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292720" y="5300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hr Kontr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5300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niger Kontr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 den nebenstehenden Symbolen können Sie die Helligkeit des Bildes einstellen. Der Pfeil nach oben bedeutet mehr Helligkeit, der nach unten wenig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72360" y="2492280"/>
            <a:ext cx="1224000" cy="600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51640" y="3860640"/>
            <a:ext cx="1247760" cy="1204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451640" y="3789360"/>
            <a:ext cx="1295640" cy="1206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651640" y="508464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lleres Bi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5084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nkleres Bi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 diesem Symbol können Sie ein Bild zuschneid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515280" y="2259000"/>
            <a:ext cx="649080" cy="568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273720" y="3860640"/>
            <a:ext cx="1271520" cy="1702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84720" y="5661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ugeschnittenes Bi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5:57:54Z</dcterms:created>
  <dc:creator> </dc:creator>
  <dc:description/>
  <dc:language>en-US</dc:language>
  <cp:lastModifiedBy> </cp:lastModifiedBy>
  <dcterms:modified xsi:type="dcterms:W3CDTF">2006-12-18T08:23:52Z</dcterms:modified>
  <cp:revision>30</cp:revision>
  <dc:subject/>
  <dc:title>Word-Workshop I</dc:title>
</cp:coreProperties>
</file>