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F05-E389-426A-B83D-2E00A99D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785-F09C-4CCB-9F80-2C51BBDD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231-8BE8-4AF7-9948-5391D96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4A2-0722-42D8-BC1F-7DF108AF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5381-5AC2-4B6D-A871-ECC672D0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7A6E-5716-444E-8FCA-83779A6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053-7B2A-490A-931E-F2C711A8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AB07-D58C-40E6-A7F3-AE22E16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B331-9A81-41FD-9C39-5C845CBC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727-C35D-4074-B851-E8B244CE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64BA-11E7-4541-AF1D-8FAE63E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708-0E14-453F-8619-AB4FA9C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9085-E4B1-4B64-BAB2-8C6E6AD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977-EC9C-4985-896E-4E09B70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2D1-B08A-438C-9B5E-A5F766F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300-2D3B-4D73-85D6-6603EC0B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2BBE-D44A-4C1D-A9D2-20A1F6AC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E30-D060-4280-8A18-CDDB42B0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A0A-C8C8-48D9-A208-01D9138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677-191B-42D2-B264-C8AC18AA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515-7D3B-46FF-8E5C-E97AF07C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B6F-2683-46F7-81E3-E8785A9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720-5AD0-4636-8C37-2B5C30A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899-3471-41E9-BCEA-1E46663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587-3339-4A8E-9B37-80B7CEA9BF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DA8-5F05-4B0D-800C-033E8F7B4E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ord-Workshop I</a:t>
            </a:r>
            <a:br>
              <a:rPr sz="4800"/>
            </a:br>
            <a:br>
              <a:rPr sz="18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(Bitte bedienen Sie die Präsentation mit der Maus)</a:t>
            </a: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Einfügen und bearbeiten von Grafi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em Symbol können Sie die Grafik drehen.  Um wie viel Grad sich das Bild dreht hängt davon ab, wie oft Sie auf das Symbol klic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66852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2997360"/>
            <a:ext cx="1557360" cy="110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04000" y="4221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drehtes Bild (1-Mal klic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1177920" cy="1731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3280" y="530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drehtes Bild (2-Mal klic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m Symbol können Sie der Grafik einen Rahmen verleihen. Es gibt verschiedene Arten, die sie in einem Menü, das beim Anklicken des Symbols erscheint, wählen könn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02320" y="219708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227640" y="3357720"/>
            <a:ext cx="1629000" cy="2157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72360" y="5589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 mit einfachen Rah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n Symbol, können Sie das Layout einstellen. Wenn Sie das Bild später noch verschieben wollen, klicken Sie am besten auf „Passend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23040" y="2060640"/>
            <a:ext cx="2782800" cy="3265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ür den Fall, dass Sie sich einmal umentscheiden wollen, klicken Sie auf dieses Symbol und Ihr letzter Befehl wird rückgängig gem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674640" cy="65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Einfügen von Clip 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icken Sie als erstes auf „Einfügen“ in der Menüleiste, anschließend auf „Grafik“. Wollen Sie nun ein Clip Art einfügen, klicken Sie auf „ClipArt…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4171680" cy="3329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der Seite des Dokumentes sollte sich jetzt dieses Menü öffnen. In das Feld unter „Text suchen:“, geben Sie einen Begriff ein, nach dem Sie suchen. Klicken Sie anschließend auf „Suchen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5800" y="1916280"/>
            <a:ext cx="2887560" cy="3549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Ergebnisse werden Ihnen in dem gleichen Menü angezeig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s Sie Ihre Angaben, über das Bild, noch einmal ändern wollen, klicken Sie auf „Ändern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60840" y="1557360"/>
            <a:ext cx="2576520" cy="434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ein Clip Art ausgewählt haben, klicken Sie einfach auf die Abbildung. Jetzt sollte sich das Bild in ihrem Dokument be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60640"/>
            <a:ext cx="337176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 auch bei den gespeicherten Grafiken, können Sie das Bild jetzt noch bearbeit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254480" cy="312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de des Word-Workshop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el Erfolg beim Einfügen von Graf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ünscht Ihnen 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formatik-K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Sarah Plaßmann,9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Monotype Corsiva"/>
              </a:rPr>
              <a:t>E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infügen</a:t>
            </a:r>
            <a:r>
              <a:rPr b="0" lang="en-US" sz="4400" spc="-1" strike="noStrike">
                <a:solidFill>
                  <a:srgbClr val="b2b2b2"/>
                </a:solidFill>
                <a:latin typeface="SimSun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von Grafik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ffnen Si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licken Sie auf „Einfügen“ in der Menüleiste so, dass sich ein neues Untermenü öff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03640" cy="3756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ählen Sie das Untermenü „Grafik“ und warten sie, bis sich ein neues  Menü öff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ein bereits gespeichertes Bild einfügen wollen, klicken Sie auf „Aus Datei…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635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nächstes erscheint das nebenan dargestellte Fen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535640" cy="2927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en Sie in ihren Ordnern nach dem Bild, das Sie in das Dokument einfügen wol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dieses gefunden haben, klicken sie zuerst auf das Bild, anschließend auf „Einfüge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392360" cy="2862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Monotype Corsiva"/>
              </a:rPr>
              <a:t>B</a:t>
            </a:r>
            <a:r>
              <a:rPr b="0" lang="en-US" sz="4400" spc="-1" strike="noStrike">
                <a:solidFill>
                  <a:srgbClr val="b2b2b2"/>
                </a:solidFill>
                <a:latin typeface="Monotype Corsiva"/>
              </a:rPr>
              <a:t>earbeiten von Grafik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n Sie das Bild, das nun im Word-Dokument erschienen sein sollte, anklicken, öffnet sich ein Menü, mit dessen Hilfe Sie das Bild bearbeiten kön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27640" y="2857680"/>
            <a:ext cx="4716360" cy="1455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n Symbolen können Sie den Kontrast des Bildes einstellen. Der Pfeil nach oben bedeutet mehr Kontrast, der nach unten weni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224000" cy="84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1130400" cy="1041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130040" cy="102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530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hr K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30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iger Kont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en nebenstehenden Symbolen können Sie die Helligkeit des Bildes einstellen. Der Pfeil nach oben bedeutet mehr Helligkeit, der nach unten weni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1224000" cy="60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1247760" cy="12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295640" cy="120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51640" y="5084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ler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nkler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 diesem Symbol können Sie ein Bild zuschnei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5280" y="2259000"/>
            <a:ext cx="649080" cy="568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73720" y="3860640"/>
            <a:ext cx="1271520" cy="1702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566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ugeschnittenes B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5:57:54Z</dcterms:created>
  <dc:creator> </dc:creator>
  <dc:description/>
  <dc:language>en-US</dc:language>
  <cp:lastModifiedBy> </cp:lastModifiedBy>
  <dcterms:modified xsi:type="dcterms:W3CDTF">2006-12-18T08:23:52Z</dcterms:modified>
  <cp:revision>30</cp:revision>
  <dc:subject/>
  <dc:title>Word-Workshop I</dc:title>
</cp:coreProperties>
</file>