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DC46-3E10-4891-B7B9-D77F1BA2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1EC8-B6CC-4CDB-96D6-5C1C612B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42B7-EDB9-4C5D-BC9E-EF4D1CE9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043C-332F-4BC3-A1BE-B4EBB211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63A8-0A32-4F54-9E70-93406E60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CA3B-6525-4B84-9549-F605CD22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D726-E584-4BD2-8EDF-DF1795B0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6127-C2B7-4C9C-A9AF-419ABE1E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FF8D-72C5-4CF8-A9D1-5CDBF73D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947F-AE8A-4649-B7F5-180C8FAD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02C1-426A-4553-BB58-71F9C30C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0564-1720-4B1B-A47E-C9A76FB0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FD0A-D2D0-4250-8270-5FE31671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D3BA-46A6-46A1-84FF-501E6AD6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3552-8D6D-4EF2-80F5-43C0F9B5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E6D4-0CD4-46EA-BA2C-94F0D3CA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89B9-07B4-4803-A55C-6239B712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CF03-286F-414E-8978-FE496C9B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F19B-5FE6-47EC-870B-B620C7CE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917D-BDB2-4381-B289-85FA272E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C617-3190-4AD0-9E35-B561ABD3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979B-BB7F-45C7-AAC6-94D2EBFD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A913-D4F9-4654-9B8B-DE1ACFA1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9162-D99B-4498-AF18-61635AAF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FA1E-B646-4148-91E2-57403E2E7A27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2F56-73F2-4BB1-BDBC-A5ADB0B6D867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sh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rbeiten mit Tabellen in Wor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klicken zum Fortfahren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ch hoffe Sie wissen nun wie man Tabellen in Word herstell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4292640"/>
          <a:ext cx="914400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92640"/>
                    <a:ext cx="914400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ritt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67200" indent="-3672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Öffnen Sie zuerst das Programm Wor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67200" indent="-3672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Klicken Sie dann in der Symbolleiste auf das Symbol „Tabelle und Rahmen“  ~~&gt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67200" indent="-3672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s erscheint ein Fenster                                            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308720" y="3068640"/>
          <a:ext cx="86364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3068640"/>
                    <a:ext cx="8636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900000" y="4365720"/>
          <a:ext cx="7236000" cy="16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4365720"/>
                    <a:ext cx="723600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ritt 2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 diesem Fenster können Sie verschiedene Einstellungen mach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435640" y="5516640"/>
          <a:ext cx="7207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5516640"/>
                    <a:ext cx="72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476360" y="4365720"/>
          <a:ext cx="576360" cy="57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4365720"/>
                    <a:ext cx="5763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003640" y="1773360"/>
          <a:ext cx="2808360" cy="4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3640" y="1773360"/>
                    <a:ext cx="2808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643280" y="2781360"/>
          <a:ext cx="1224000" cy="61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3280" y="2781360"/>
                    <a:ext cx="122400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7164360" y="4292640"/>
          <a:ext cx="792360" cy="469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64360" y="4292640"/>
                    <a:ext cx="7923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380360" y="5734080"/>
          <a:ext cx="792000" cy="434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80360" y="5734080"/>
                    <a:ext cx="7920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476360" y="5661000"/>
          <a:ext cx="719280" cy="463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76360" y="5661000"/>
                    <a:ext cx="71928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419640" y="5661000"/>
          <a:ext cx="934920" cy="496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19640" y="5661000"/>
                    <a:ext cx="93492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7020000" y="2781360"/>
          <a:ext cx="720720" cy="655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20000" y="2781360"/>
                    <a:ext cx="72072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292720" y="4292640"/>
          <a:ext cx="576360" cy="550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292720" y="4292640"/>
                    <a:ext cx="57636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492360" y="4292640"/>
          <a:ext cx="648000" cy="615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92360" y="4292640"/>
                    <a:ext cx="6480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5076720" y="6165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abelle zeichn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87640" y="5013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ortierung Z-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59280" y="501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ortierung A-Z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501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abelle radier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48360" y="501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ahmenfarb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48360" y="2276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inienar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16360" y="3429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inienstärk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07280" y="3429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utoFormat Für Tabell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616572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abelle einfüg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42920" y="62164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Hintergrundfarb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64360" y="616572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ahmenlini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0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9000"/>
                            </p:stCondLst>
                            <p:childTnLst>
                              <p:par>
                                <p:cTn id="1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ritt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Jetzt stellen Sie Ihre gewünschten Einstellungen ei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Wenn Sie dies getan haben  klicken sie auf das Symbol „Tabelle einfügen“  ~~&gt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140360" y="5084640"/>
            <a:ext cx="100800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ritt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33354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s öffnet sich ein Fenst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Geben Sie ihre Gewünschte Zeilen und Spalten Zahl a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palten: Rechts  nach Link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Zeilen: Oben nach Unt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427640" y="1557360"/>
          <a:ext cx="4716360" cy="53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557360"/>
                    <a:ext cx="471636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ritt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-429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Geben Sie zum Beispiel 2 Spalten und 4 Zeilen an, sieht Ihr Ergebnis davon so au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dem Kasten 1 können Sie die Tabelle verschieben und an 2 die Größe ändern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651200" y="1989000"/>
          <a:ext cx="395928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0" y="1989000"/>
                    <a:ext cx="39592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4500720" y="162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459640" y="6165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ritt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e können auch die Zellen verbinden, dies ist z.B. gut wenn man einen Stundenplan machen möchte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e müssen die gewünschten Zellen die zu Verbinden sind markieren und auf die linke Maustaste klick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ort klicken Sie dann auf Zellen verbinden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  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~&gt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12000" y="5300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Nächste Seit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tsetz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ie erste Zeile unten bei dem Stundenplan wurde verbund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ies können Sie natürlich auch in den Spalten mach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4149720"/>
          <a:ext cx="9144000" cy="23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49720"/>
                    <a:ext cx="914400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0000" y="96480"/>
            <a:ext cx="71899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usammenfass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Öffnen Sie erst Wor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enster „Tabellen und Rahmen“ öffn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chen Sie dort Ihre Einstellung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Öffnen Sie nun die Tabel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palten und Zeilen Anzahl einstell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Hier können Sie einige Sachen verändern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un ist die Tabelle ferti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5:58:01Z</dcterms:created>
  <dc:creator> </dc:creator>
  <dc:description/>
  <dc:language>en-US</dc:language>
  <cp:lastModifiedBy> </cp:lastModifiedBy>
  <dcterms:modified xsi:type="dcterms:W3CDTF">2006-12-18T08:22:45Z</dcterms:modified>
  <cp:revision>11</cp:revision>
  <dc:subject/>
  <dc:title>Workshop</dc:title>
</cp:coreProperties>
</file>