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5B3-A15C-4C90-A3E0-B17E0147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5BF-40C5-499F-8E30-26D9F72B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1D6-5E94-4BCB-96D6-99CB85CF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6D1-DBAA-4D8D-953F-7A127855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A082-A4BC-4BB8-99FE-95960D0D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C42E-1576-44DD-BE8D-E8FE4164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8C96-F73B-44B6-BC0F-4A22BBC2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110B-A549-4EE5-BE50-7BC3E11C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0CD5-EA82-41A5-B04E-CD8E7BE7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8FA1-6AD7-46F2-BA98-34DC4669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7EA3-66C4-4C7E-8AA7-6340067D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856-69F3-4D09-9546-9A7B3829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A630-109F-4E48-BD4D-BED20AEB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DE12-2D2A-45E9-BB2B-D8352847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8847-BDD4-453A-974A-94A97113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7442-CE6E-44D7-97FC-46ABDAFF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D275-9EAD-4A0E-B902-71035DEC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3BA-4EEF-4DC2-B8CB-D555864F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3B0-AABB-48F0-B817-FCE5A420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AD7-0DDD-4620-B306-087EB305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FBA-C165-4ED1-8178-0932FA49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4F9-4BEF-4DF5-ABB4-A59DE6DA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372-EA98-440B-8CE0-D194C0E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450-2EC4-4813-B223-75F6C946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5D26-5AAC-49A0-9850-B2AF181DAB6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0E6B-7841-4CF4-82A7-82BBAD79FDE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rbeiten mit Tabellen in Wor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klicken zum Fortfahre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ch hoffe Sie wissen nun wie man Tabellen in Word herstell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4292640"/>
          <a:ext cx="91440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92640"/>
                    <a:ext cx="91440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rit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-367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Öffnen Sie zuerst das Programm Wor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licken Sie dann in der Symbolleiste auf das Symbol „Tabelle und Rahmen“  ~~&gt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67200" indent="-367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s erscheint ein Fenster                                  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308720" y="3068640"/>
          <a:ext cx="8636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3068640"/>
                    <a:ext cx="863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900000" y="4365720"/>
          <a:ext cx="7236000" cy="16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365720"/>
                    <a:ext cx="723600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ritt 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diesem Fenster können Sie verschiedene Einstellungen mach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435640" y="5516640"/>
          <a:ext cx="720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5516640"/>
                    <a:ext cx="72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476360" y="4365720"/>
          <a:ext cx="57636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4365720"/>
                    <a:ext cx="5763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003640" y="1773360"/>
          <a:ext cx="2808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1773360"/>
                    <a:ext cx="2808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643280" y="2781360"/>
          <a:ext cx="122400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2781360"/>
                    <a:ext cx="12240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164360" y="4292640"/>
          <a:ext cx="792360" cy="46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4360" y="4292640"/>
                    <a:ext cx="7923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380360" y="5734080"/>
          <a:ext cx="792000" cy="43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80360" y="5734080"/>
                    <a:ext cx="792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476360" y="5661000"/>
          <a:ext cx="719280" cy="463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76360" y="5661000"/>
                    <a:ext cx="719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419640" y="5661000"/>
          <a:ext cx="934920" cy="496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9640" y="5661000"/>
                    <a:ext cx="93492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020000" y="2781360"/>
          <a:ext cx="720720" cy="655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20000" y="2781360"/>
                    <a:ext cx="720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292720" y="4292640"/>
          <a:ext cx="576360" cy="550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92720" y="4292640"/>
                    <a:ext cx="5763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492360" y="4292640"/>
          <a:ext cx="648000" cy="615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92360" y="4292640"/>
                    <a:ext cx="6480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076720" y="61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abelle zeichn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501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ortierung Z-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9280" y="501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ortierung A-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abelle radier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501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ahmenfarb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22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inienar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342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inienstärk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7280" y="3429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utoFormat Für Tabell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616572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abelle einfüg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62164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intergrundfarb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61657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ahmenlini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ritt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Jetzt stellen Sie Ihre gewünschten Einstellungen ei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enn Sie dies getan haben  klicken sie auf das Symbol „Tabelle einfügen“  ~~&gt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140360" y="5084640"/>
            <a:ext cx="10080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rit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335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s öffnet sich ein Fenst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eben Sie ihre Gewünschte Zeilen und Spalten Zahl 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alten: Rechts  nach Lin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Zeilen: Oben nach Unt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427640" y="1557360"/>
          <a:ext cx="471636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4716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rit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eben Sie zum Beispiel 2 Spalten und 4 Zeilen an, sieht Ihr Ergebnis davon so au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dem Kasten 1 können Sie die Tabelle verschieben und an 2 die Größe ändern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51200" y="1989000"/>
          <a:ext cx="3959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989000"/>
                    <a:ext cx="3959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500720" y="162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459640" y="61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ritt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e können auch die Zellen verbinden, dies ist z.B. gut wenn man einen Stundenplan machen möcht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e müssen die gewünschten Zellen die zu Verbinden sind markieren und auf die linke Maustaste klick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rt klicken Sie dann auf Zellen verbinden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~&gt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530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ächste Sei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tsetz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e erste Zeile unten bei dem Stundenplan wurde verbund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es können Sie natürlich auch in den Spalten mach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4149720"/>
          <a:ext cx="914400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9720"/>
                    <a:ext cx="91440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96480"/>
            <a:ext cx="71899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Öffnen Sie erst Wor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enster „Tabellen und Rahmen“ öffn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chen Sie dort Ihre Einstellung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Öffnen Sie nun die Tabel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alten und Zeilen Anzahl einstell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ier können Sie einige Sachen veränder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un ist die Tabelle ferti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5:58:01Z</dcterms:created>
  <dc:creator> </dc:creator>
  <dc:description/>
  <dc:language>en-US</dc:language>
  <cp:lastModifiedBy> </cp:lastModifiedBy>
  <dcterms:modified xsi:type="dcterms:W3CDTF">2006-12-18T08:22:45Z</dcterms:modified>
  <cp:revision>11</cp:revision>
  <dc:subject/>
  <dc:title>Workshop</dc:title>
</cp:coreProperties>
</file>